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90092"/>
        <c:axId val="30649993"/>
      </c:barChart>
      <c:catAx>
        <c:axId val="35390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9993"/>
        <c:crosses val="autoZero"/>
        <c:auto val="1"/>
        <c:lblAlgn val="ctr"/>
        <c:lblOffset val="100"/>
        <c:noMultiLvlLbl val="0"/>
      </c:catAx>
      <c:valAx>
        <c:axId val="30649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90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E37-1BB9-4BDA-AB7F-4631AE64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B5E-F7D7-4266-9F89-D2757B7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D15-0C4D-4572-BEE7-B9280606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D22-53D0-41B0-B9E9-506F8DAB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C27-F343-4CED-908E-7FC05EF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EE2-5907-434B-B41C-C86E18C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650-B85F-494B-9FBF-8670F8C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9A5-896C-4B6C-9798-AA1F2BF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6BF-58A3-4F65-9FD5-148D2E83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BBB-6689-47BB-B006-7454C8B7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9AC-1117-48E0-99A0-99CD666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EBB-A8F4-4C3D-BC2A-410B3431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30FB-1A3E-4F81-A46C-53D9E9F56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