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69147"/>
        <c:axId val="39846285"/>
      </c:barChart>
      <c:catAx>
        <c:axId val="96769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46285"/>
        <c:crosses val="autoZero"/>
        <c:auto val="1"/>
        <c:lblAlgn val="ctr"/>
        <c:lblOffset val="100"/>
        <c:noMultiLvlLbl val="0"/>
      </c:catAx>
      <c:valAx>
        <c:axId val="39846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69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7E4-D628-4D74-A610-AE21A6DD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074-607E-4067-8BDB-FEACF515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541-EF82-4262-818C-B0D80518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FD5-78CF-4334-AA74-8A295940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9AE-303D-48D5-AAEB-F2127A87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055-9043-4D95-889F-10314EBA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184-A53F-43CA-8BFC-F2ADF722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0E2-4C25-47E6-9293-269AC425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26C-6F14-4F15-B02F-9C0E0844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D12-C7C9-4CC3-A1B6-7B6CA19A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345-DC2E-4EF5-81D2-56B28E9D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68C-4990-47D1-8E43-F0A09319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0D1C8-8D1A-4E65-93C7-923586463B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