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58641"/>
        <c:axId val="4051760"/>
      </c:barChart>
      <c:catAx>
        <c:axId val="68058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1760"/>
        <c:crosses val="autoZero"/>
        <c:auto val="1"/>
        <c:lblAlgn val="ctr"/>
        <c:lblOffset val="100"/>
        <c:noMultiLvlLbl val="0"/>
      </c:catAx>
      <c:valAx>
        <c:axId val="405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8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4F6-E60B-4610-92AF-B0BEAEBB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110-EDF6-45BD-9F50-6800C83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B69-A217-475A-B826-65B3901C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E24-16C0-498A-88E2-2A350883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7DC-1299-41AE-AE2F-FE05470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241-32C2-407E-900B-EFF06AE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A2D-B880-47A4-B144-1F5EB16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6E8-BBAE-4FBB-A1B7-CD954B9F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17A-BDD6-449E-8C7B-33F8B22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4B9-30D0-4B75-8241-1D85C5A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8C5-BB13-49C2-B905-9A721426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A9B-66E9-407A-B52C-0877563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713C6-1845-43A5-88D5-DDB021301A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