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18200"/>
        <c:axId val="20701223"/>
      </c:barChart>
      <c:catAx>
        <c:axId val="205182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01223"/>
        <c:crosses val="autoZero"/>
        <c:auto val="1"/>
        <c:lblAlgn val="ctr"/>
        <c:lblOffset val="100"/>
        <c:noMultiLvlLbl val="0"/>
      </c:catAx>
      <c:valAx>
        <c:axId val="207012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182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497-76EF-4C2C-A019-74D9C126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1D3E-BF29-49CC-B434-3CDB1BE0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E21-5E62-4E43-AEF7-67DE9263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7B8-39D8-4D6A-AF7C-B44CC077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8F8C-5CAC-4BA5-9952-66DFD571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7D58-31D0-4262-897F-44569FA9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FBA-08DA-49DE-8061-12C7594A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94BC-E317-4090-8E25-E3916D5F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B567-9277-4D8F-93EA-2A5EE2D9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A451-A692-466D-B2A5-D57B0EE7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B10D-B8D5-4EEC-B52B-A7025BFB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0A6-6428-433F-A7FE-F1B15A62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CC989-0080-4587-9F35-5C5F0CDCDE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