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37103"/>
        <c:axId val="81004179"/>
      </c:barChart>
      <c:catAx>
        <c:axId val="73337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04179"/>
        <c:crosses val="autoZero"/>
        <c:auto val="1"/>
        <c:lblAlgn val="ctr"/>
        <c:lblOffset val="100"/>
        <c:noMultiLvlLbl val="0"/>
      </c:catAx>
      <c:valAx>
        <c:axId val="81004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37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E31-40E5-4931-BB0C-FE7EEBA3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99B-87DB-4C2D-BF18-4DE3FEB8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DC0-73BC-436E-8F18-187AC823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78F-BC75-45E3-B878-929C5551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286-8878-4192-9BDE-3BF2AAD1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3B3-7544-46B6-A3C5-0FEC6990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B3B-599D-430E-BAE3-417B2A3C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A35-FB43-421A-8C18-11D4E11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525-3E67-4884-AD5B-6C78458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B5A-86D4-46A3-ACA7-C261FF1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291-FD41-4CDD-A4B3-08027ACF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7D0-A41A-4B06-9F6B-3EFE8C2C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07D46-8885-4CE1-ADB3-04566FDB52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