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69232"/>
        <c:axId val="70074878"/>
      </c:barChart>
      <c:catAx>
        <c:axId val="79269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4878"/>
        <c:crosses val="autoZero"/>
        <c:auto val="1"/>
        <c:lblAlgn val="ctr"/>
        <c:lblOffset val="100"/>
        <c:noMultiLvlLbl val="0"/>
      </c:catAx>
      <c:valAx>
        <c:axId val="70074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69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1D6-7318-43A0-8211-0F51D81E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E0B-96CB-419D-AC2A-986EFB68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134-6BA6-4DC9-8C0A-48F323A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AF3-6D3F-444E-8985-5DE24E4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BB0-A6E0-46FF-987E-4EB701F9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67D-9959-4807-807E-EA8338C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48B-89E7-400F-A927-712FA6F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5B6-F6BD-48B0-A8CC-C8DA8434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B06-2E0C-4A7E-B4D5-EAF444C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F2E-4D0D-42F8-9C51-20CC5A8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EAB-4F3A-4242-94E2-9470473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108-3CDE-42B9-B4F7-70B11C25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6309-298D-4E62-9823-1004E3557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