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6877"/>
        <c:axId val="98677079"/>
      </c:barChart>
      <c:catAx>
        <c:axId val="1136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77079"/>
        <c:crosses val="autoZero"/>
        <c:auto val="1"/>
        <c:lblAlgn val="ctr"/>
        <c:lblOffset val="100"/>
        <c:noMultiLvlLbl val="0"/>
      </c:catAx>
      <c:valAx>
        <c:axId val="98677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6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9CE-FEE5-47E1-8AF2-B1CD24BA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841-B8B6-4B80-B269-923D3F93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295-7A62-4BBC-B522-D06DECFF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016-E0B6-4BF4-B868-12F56C9E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984-1FDE-44E8-956F-055A43E1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773-EE21-4CD1-B149-FDCC0423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18C-3C9E-4AF8-98EA-91BB60F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0AA-1D76-48B0-A98E-815A7C6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279-ADFB-4D1B-ADF1-338870F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5D3-93B5-4B31-98CE-D20535F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069-A0F7-4EA9-A4AE-5D5BF83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419-7D2B-4726-A0A6-3DA4855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212AB-09E7-4F7B-BB1C-5AA4C59D9B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