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5204"/>
        <c:axId val="43066768"/>
      </c:barChart>
      <c:catAx>
        <c:axId val="57452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66768"/>
        <c:crosses val="autoZero"/>
        <c:auto val="1"/>
        <c:lblAlgn val="ctr"/>
        <c:lblOffset val="100"/>
        <c:noMultiLvlLbl val="0"/>
      </c:catAx>
      <c:valAx>
        <c:axId val="43066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52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68B-106A-4D94-90C0-70D758A2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FA3-E107-4A46-A16F-23FBA1BB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262A-0D52-484B-8759-7729FC40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A86-8195-48BD-A16C-56A4FCF8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084-9CAA-4F7E-B299-8F5237E1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F468-5F64-4D07-A1FE-DE8B590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A03-A8D6-4889-9BC0-D4D2B212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C9E-33CD-4763-B9FF-E9B68C4F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157-D22F-423B-990A-EA11B689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7F9D-8410-4448-9DD0-1516C7BF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CA7-735D-4408-8F55-4FEC058F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1E8-E636-4464-886F-5F692F0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591BC-BC28-49F3-91FF-EE65A28301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