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77229"/>
        <c:axId val="97456905"/>
      </c:barChart>
      <c:catAx>
        <c:axId val="96877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56905"/>
        <c:crosses val="autoZero"/>
        <c:auto val="1"/>
        <c:lblAlgn val="ctr"/>
        <c:lblOffset val="100"/>
        <c:noMultiLvlLbl val="0"/>
      </c:catAx>
      <c:valAx>
        <c:axId val="97456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77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841-0916-449E-8F77-D5398C66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166-2EC1-4555-AB8B-48F98A3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0B1-46B6-48CD-BFD5-46432384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41C-CFF7-4A10-B645-0A52B642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0B5-00B5-4DFE-93DA-DC000C77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B16-3DD4-44F9-9C57-C0712273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0C0-5547-4C50-9557-9AF7E581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EC6-841A-4BB5-8090-76172A7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57B-4285-4B8A-BD3E-7427C5A2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938-B9D1-4208-AFA5-75B70FC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504-2B2F-4B66-80F2-68B85F1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A1E-8319-438A-BDB6-21C962C8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FCF55-7F3B-4346-ADDA-40E240C42A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