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996478"/>
        <c:axId val="38869334"/>
      </c:barChart>
      <c:catAx>
        <c:axId val="149964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69334"/>
        <c:crosses val="autoZero"/>
        <c:auto val="1"/>
        <c:lblAlgn val="ctr"/>
        <c:lblOffset val="100"/>
        <c:noMultiLvlLbl val="0"/>
      </c:catAx>
      <c:valAx>
        <c:axId val="388693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964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36B7-2CEA-4313-82AA-00A8F5773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73F5-8F9D-4783-B967-98B643E3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4404-9262-4290-838A-985A3CF7C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287C-FF35-47D9-8B47-FF1107E8E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0AB1-A4BB-4142-A6DA-56315B3F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777A-33B1-4DCE-AB05-F11FBD9D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A29B-C3B7-4307-AF5E-7BCE38BA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C0E3-D839-4B10-8C80-FCA7EA98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E846-9783-4A4C-8448-465CD544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8168-1A32-40E0-A9BA-31A050C2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8C90-50C4-4A1D-A999-2E182C01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AB53-C33C-4F41-80D0-CCA48DD5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30A4B-4F0E-41A5-B9FD-C6D3DA1DC9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