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39576"/>
        <c:axId val="85222124"/>
      </c:barChart>
      <c:catAx>
        <c:axId val="87839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22124"/>
        <c:crosses val="autoZero"/>
        <c:auto val="1"/>
        <c:lblAlgn val="ctr"/>
        <c:lblOffset val="100"/>
        <c:noMultiLvlLbl val="0"/>
      </c:catAx>
      <c:valAx>
        <c:axId val="852221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39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29E-6F10-4F84-AD9D-9DAF9898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3B65-36DC-4CCE-8464-91C13F22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934-D42B-4EC1-91CB-18C623FC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703-433B-48B1-94A2-3D1B3F77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D0F3-33D9-40D1-945E-76920C49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542-EEEE-4D6D-A0BE-4BE6BDE6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C42B-6F6F-4003-9FD2-D6D53CBBF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FF95-8648-45FD-901D-B16ECEF2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923-447A-44EF-93C9-2B3803F9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A6C-A277-432F-9D87-C765B4FD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0C6-42F5-4DBD-8E60-13448096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CFA8-6FCA-47B2-9F47-F5159D60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5DF55-E2F9-4802-B11A-1EB540C19E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