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76003"/>
        <c:axId val="64237467"/>
      </c:barChart>
      <c:catAx>
        <c:axId val="172760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37467"/>
        <c:crosses val="autoZero"/>
        <c:auto val="1"/>
        <c:lblAlgn val="ctr"/>
        <c:lblOffset val="100"/>
        <c:noMultiLvlLbl val="0"/>
      </c:catAx>
      <c:valAx>
        <c:axId val="64237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760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91EB-D717-4017-ADD3-B308F362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B55-2C84-40C1-BF67-AA1EB750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B8FB-F827-4066-9FB6-5A33678B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3B4-4A25-401B-9599-4EC255C7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695-9E57-4206-A14A-18F718AC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128-C2E5-4B88-9EC2-B5B8C602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23B-3F93-4007-A4DE-F383540E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F27-50EE-4FCA-B58F-49E17FC4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CCA-A7FD-4FA1-841A-768B81B4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4CC-3CB6-4F2E-8C66-13076BCE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F19-481E-4179-A9A5-343F3A6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3556-64BC-4E1C-8937-43774609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1C250-9A87-45B0-8468-72F0D07EAF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