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41599"/>
        <c:axId val="47968389"/>
      </c:barChart>
      <c:catAx>
        <c:axId val="91141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68389"/>
        <c:crosses val="autoZero"/>
        <c:auto val="1"/>
        <c:lblAlgn val="ctr"/>
        <c:lblOffset val="100"/>
        <c:noMultiLvlLbl val="0"/>
      </c:catAx>
      <c:valAx>
        <c:axId val="47968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41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E0A-C27C-4B46-A65A-59DB1EB7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B8A-3286-474F-AAE9-C01373BD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413-5392-49C1-B2B1-45E2106A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844-A8BE-4D98-8CA2-3A8F36CF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1FE-FC0E-4B4D-94A6-2C2ECC56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5CA-06FA-4ABA-BFA0-06F9ABDD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C6C-103B-48E6-B7BB-7D9CA4BF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608-C060-4437-BFA9-CA71EF61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11E-A82A-44A0-AA67-7972CCE7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BB1-3DF8-4546-B539-78F5ED2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BDA-D9D9-44EC-BC46-219EF167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C26-E25B-4F32-B8B8-4103F10E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8C520-99AA-4914-909E-EF225601E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