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26276"/>
        <c:axId val="4355533"/>
      </c:barChart>
      <c:catAx>
        <c:axId val="61826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5533"/>
        <c:crosses val="autoZero"/>
        <c:auto val="1"/>
        <c:lblAlgn val="ctr"/>
        <c:lblOffset val="100"/>
        <c:noMultiLvlLbl val="0"/>
      </c:catAx>
      <c:valAx>
        <c:axId val="43555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26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5E77-187D-4FD5-9060-37AC3650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621C-7929-4D05-922E-C86A7945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829-C751-4384-AA1E-B9FA56FD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D0FB-C437-4456-A6C0-D525A729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0E6C-8ACF-4A5D-9546-06F9C7DF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0EB-670C-4D83-8367-9BD51E5B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075D-5A71-4773-BA29-28F6B1A5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779-A0DB-40F7-85B1-BBD99AEF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582-EE28-42AC-85A8-43F8EDFA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7C86-4E3C-4B5D-A647-E5B8D220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10E-10F1-4B09-A934-0E1A7100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464-3E3A-4D1C-A21B-EDECBDFC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8D0C9-AE4A-41C4-874F-1069220DED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