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36319"/>
        <c:axId val="27162388"/>
      </c:barChart>
      <c:catAx>
        <c:axId val="36536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62388"/>
        <c:crosses val="autoZero"/>
        <c:auto val="1"/>
        <c:lblAlgn val="ctr"/>
        <c:lblOffset val="100"/>
        <c:noMultiLvlLbl val="0"/>
      </c:catAx>
      <c:valAx>
        <c:axId val="27162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36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9D1-554C-4215-AD63-23FB1456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635-8A0F-4642-9DE5-881BAA34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8BA-1460-463D-912F-7654B39E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AAD-6088-4324-B791-1E472303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414-C4DA-4642-81E6-C956F362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113-B4D6-4D33-8B85-111F4435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E1F-C4FA-4B2C-8847-ABFC9C5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734-A28A-43D8-BC76-ADDC17C9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EE1-36CC-4451-9D84-00F7905B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B9F-0DC7-4294-83FB-9264587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637-1F72-4FA7-9A87-82801B78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6B7-EB00-4516-9DFC-C5F86BF0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4C9DA-64A3-4D66-A28B-EB7436176E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