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095559"/>
        <c:axId val="38204272"/>
      </c:barChart>
      <c:catAx>
        <c:axId val="76095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04272"/>
        <c:crosses val="autoZero"/>
        <c:auto val="1"/>
        <c:lblAlgn val="ctr"/>
        <c:lblOffset val="100"/>
        <c:noMultiLvlLbl val="0"/>
      </c:catAx>
      <c:valAx>
        <c:axId val="38204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95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155-FF36-472D-A853-5BAEE180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84CF-301F-4AAB-9A73-1F4CD0DB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059-4CFB-4043-9315-85D75C0A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36D1-A90F-43A7-92DF-20420F02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C07B-5FE5-468B-8496-C755B82C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030B-FE0B-4414-8232-9A32B0AD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DB13-D2C5-4B16-B3E9-FEC64E1D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0A7-A8E7-4D55-A5B9-2F88BD74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9419-1BA2-4259-ADAB-E00F0FEE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948-74EF-4C4A-ACA2-3DDE4FF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4F3C-808D-4182-A1C5-BA4DA7B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F20-AAF6-4ECC-82DA-2D58B115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6C359-B2BF-408B-8FCE-46930B7CF8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