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85103"/>
        <c:axId val="58838962"/>
      </c:barChart>
      <c:catAx>
        <c:axId val="63485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8962"/>
        <c:crosses val="autoZero"/>
        <c:auto val="1"/>
        <c:lblAlgn val="ctr"/>
        <c:lblOffset val="100"/>
        <c:noMultiLvlLbl val="0"/>
      </c:catAx>
      <c:valAx>
        <c:axId val="58838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85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A41-01A1-484D-912B-C8BF7B8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95-E28E-49CF-A6F0-5329FDEF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708-031D-46A6-85B1-E449525E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7FE-828B-401E-8FF0-CD30ADC8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97C-790E-4CAD-AEEA-37D06271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3E6-B4D4-46B0-ACB6-B783704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9E6-27A1-4C0B-B7BF-E6FD9C8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429-1DBA-4EE3-887D-17BA41E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D6F-43E9-462C-801D-F467956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395-75AB-45C8-B1B6-8DCEDC7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C24-DBF6-4D74-9A26-2F0EAA9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5B7-9998-4675-8FF4-315AF7B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B075-0609-4644-A35D-EB4DADF309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